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F34-A183-4F24-8127-A025D09A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B4E-9BD5-4F44-A1D6-9895D727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EFB-E460-4422-9DAD-890BAA37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3D1-5CAC-47DF-935B-3B1895EC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6F6-E574-4AE5-8F0A-C66D0F26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B9D-606C-4249-8FD5-0F11E440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975-79BB-484E-8823-A3DF968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64B-F46D-4557-856F-43EAB871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272-0504-49F5-BBF8-D56FD352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404-9E5E-4E56-8976-067D055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24D-3592-461F-8976-51279CF7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104-2982-4CEE-8AF1-71937D7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2531-B7B3-4368-A032-C31D100B1E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nosacá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sacá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lisacáridos (lineales y ramificad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tras moléculas que contienen hidratos de carbono en su estruc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38120" y="1676520"/>
            <a:ext cx="473904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órmula general mínima:  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6520" y="2438280"/>
            <a:ext cx="582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órmula mínima: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Hidrato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6080" y="3048120"/>
            <a:ext cx="7111800" cy="197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nciones químicas presentes en 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           R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dehído         R-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cido               R-CO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a              R-CH-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8880" y="5029200"/>
            <a:ext cx="6986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lace que une dos o más 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icosídic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(R-OH  + R’-OH          R-O-R’ +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re OH que se encuentran en diferentes pos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l azúcar o hidrato de carbo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40120" y="552132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idratos de Carbono: monosacá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88920" y="30481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exosas cíc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3920" y="30481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ntosas cíc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1366920" cy="1519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014560" cy="1360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560" y="3657600"/>
            <a:ext cx="8613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sición del grupo OH en cada C del anillo va a definir al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idratos de Carbono: disacá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095640" cy="4695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51960" y="2556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8640" y="50706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4520" y="3733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ca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286000"/>
            <a:ext cx="838080" cy="3505320"/>
          </a:xfrm>
          <a:custGeom>
            <a:avLst/>
            <a:gdLst>
              <a:gd name="textAreaLeft" fmla="*/ 0 w 838080"/>
              <a:gd name="textAreaRight" fmla="*/ 302760 w 83808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idratos de Carbono: polisacá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610480" cy="2890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42320" y="5749920"/>
            <a:ext cx="79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lulosa: polímero de glucosa con uniones glicosídica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idratos de Carbono: polisacá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9000" y="518148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icógeno: enlace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,4- entre moléculas de 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animales y bacter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midón (pla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240" y="2514600"/>
            <a:ext cx="297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lace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,6- entre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léculas de 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365760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43800" y="457200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4648320"/>
            <a:ext cx="152640" cy="380880"/>
          </a:xfrm>
          <a:prstGeom prst="upArrow">
            <a:avLst>
              <a:gd name="adj1" fmla="val 50000"/>
              <a:gd name="adj2" fmla="val 62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457200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297180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33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38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3840" y="35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534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idratos de carbono: heteropolisacá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cido hialurónico: Ac. Glucurónico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,3) N-acetilglucosamina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,4) Ac. Glucurónico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,3) N-acetilglucosamina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,4)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ueratán sulfato: Galactosa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,4) N-acetilglucosamina-6-sulfato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,3) Galactosa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,4) N-acetilglucosamina-6-sulfato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,3)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idratos de carbono: interacción con otras molé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icoproteína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hidratos de carbono se unen en forma covalente a una proteína. Predomina la porción prote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teoglican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subclase de glicoproteínas, extensamente hidratadas, en las que predominan los hidratos de car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icolí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hidratos de carbono se unen en forma covalente a líp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ribosa y la desoxirribosa son parte de los nucleótidos que forman parte de los 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5639040" cy="3508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5880" y="51055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49240" y="491796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ib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6960" y="25146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itroge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640" y="54864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ifosf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51920" y="24573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2:11:29Z</dcterms:created>
  <dc:creator>Luz María Perez</dc:creator>
  <dc:description/>
  <dc:language>en-US</dc:language>
  <cp:lastModifiedBy>Luz María Perez</cp:lastModifiedBy>
  <dcterms:modified xsi:type="dcterms:W3CDTF">2001-03-30T01:12:37Z</dcterms:modified>
  <cp:revision>26</cp:revision>
  <dc:subject/>
  <dc:title>Hidratos de Carbono</dc:title>
</cp:coreProperties>
</file>